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25.jpeg" ContentType="image/jpeg"/>
  <Override PartName="/ppt/media/image24.jpeg" ContentType="image/jpeg"/>
  <Override PartName="/ppt/media/image22.png" ContentType="image/png"/>
  <Override PartName="/ppt/media/image1.png" ContentType="image/png"/>
  <Override PartName="/ppt/media/image12.pct" ContentType="image/x-pict"/>
  <Override PartName="/ppt/media/image6.pct" ContentType="image/x-pict"/>
  <Override PartName="/ppt/media/image15.jpeg" ContentType="image/jpeg"/>
  <Override PartName="/ppt/media/image27.jpeg" ContentType="image/jpeg"/>
  <Override PartName="/ppt/media/image8.pct" ContentType="image/x-pict"/>
  <Override PartName="/ppt/media/image3.pct" ContentType="image/x-pict"/>
  <Override PartName="/ppt/media/image11.jpeg" ContentType="image/jpeg"/>
  <Override PartName="/ppt/media/image9.jpeg" ContentType="image/jpeg"/>
  <Override PartName="/ppt/media/image13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10.jpeg" ContentType="image/jpeg"/>
  <Override PartName="/ppt/media/image29.jpeg" ContentType="image/jpeg"/>
  <Override PartName="/ppt/media/image7.png" ContentType="image/png"/>
  <Override PartName="/ppt/media/image4.pct" ContentType="image/x-pict"/>
  <Override PartName="/ppt/media/image2.pct" ContentType="image/x-pict"/>
  <Override PartName="/ppt/media/image1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8.jpeg" ContentType="image/jpeg"/>
  <Override PartName="/ppt/media/image17.pct" ContentType="image/x-pict"/>
  <Override PartName="/ppt/media/image19.png" ContentType="image/png"/>
  <Override PartName="/ppt/media/image21.jpeg" ContentType="image/jpeg"/>
  <Override PartName="/ppt/media/image2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Impact"/>
              </a:rPr>
              <a:t>Click to move the slide</a:t>
            </a: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1BD59-6CB3-44EF-A1FA-612698DAC9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rkins was passed in August 2006 for a 6 year period –FY2012.  States have three years in which to implement a program of study in districts receiving Perkins doll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8ADDC-E438-44DF-A13F-8B374B8906F2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r district may select an area other than FCS in which to create a program of study but that does not mean that it is not something you should ignore. You need to be at the table.  You can lead the way by creating a program a study within your department and most likely you offer a course in your program that will support other programs of study.  Programs of study just make good sen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06DEE-40EA-4C3C-8F77-5EEDC1AA0785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is then? 1909 or what year? How does life expectancy tie into what FCS has accomplish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2C89F-F861-4DEA-89CE-176679ABC448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01F37-2D46-45E0-A537-572219ABD02F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do we define Program of Study?  Perkins requires that districts offer students Programs of Study that   1. include coherent &amp; rigorous CTE content aligned with challenging academic standards  2.  provide students the opportunity to participate in dual or concurrent enrollment programs or other ways to acquire postsecondary credits  an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Lead to an industry recognized credentia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changed end of year to end of program assessments.  Students who have completed 3 credits in a sequence will be the ones required to take the tes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E15B2-14AF-4421-BF3D-62B375584AB8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B9C2-A2CB-4287-BD9F-6434FF458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489D-9C46-4998-B371-3014B9D86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094D-46FB-4A6D-96FE-F0C669E75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DE64-9C3E-4E8B-9CB1-1DBE12E78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41E62-778B-4418-94BC-B58F44B27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27041-1F1A-420F-9F49-997BD002B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D19EE-3568-4F1D-9D15-EBF9CBEDA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2501A-A2E6-4A06-93FB-DB16F36DB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E50F7-4A59-4B84-899F-A74B0835D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AEB89-DABD-4C90-846D-61D4D7A4C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3AF31-E123-45FA-876C-2B0251424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6094-9730-4751-B304-272A35721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44401-FC51-4D9C-8FD7-56A164ECF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2C26F-3922-4DB8-93FD-82A8ACC73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5BB6D-E8D0-47AD-B520-1150A008B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C7392-0215-487C-923D-B19D5FB62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AA555-3048-42F4-9433-357C4F78F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E04F66-CDAE-4D30-9F07-A28E2E69F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01B278-253D-4FFF-8E70-4B91FDCA3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B85F69-E52C-4C49-A990-B5866EE65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E03DB8-AD18-45EF-82A8-3E2253CE5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552411-A1BF-49BF-8B27-4D96CB7F7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424C-F805-4E95-AA76-E9493BFB2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AC5579-43FA-4A3E-8496-8526C4E95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A99E6B-A222-4CF6-AB28-995356D82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539CE9-4D42-4A44-B915-40771EB32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DD43B9-291F-4026-8F43-EA27C754A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F91B89-4F21-4D93-A27A-47110D02E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0E92D5-9316-4277-81B7-02B0F4C7E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C49382-AFAB-4F85-A5C6-52910DB70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45B0-4BED-43AE-B6B9-1ADFEC0A9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060B-8DAC-4485-94AF-FEEAEA80B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13D1-725A-41A1-BB77-B95F5E597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3087-95D0-416F-957C-20421924D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B4C2-5418-4434-811F-A454D12CC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8A3E-F690-4CE6-BDCF-480B616DD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0"/>
          <p:cNvGrpSpPr/>
          <p:nvPr/>
        </p:nvGrpSpPr>
        <p:grpSpPr>
          <a:xfrm>
            <a:off x="-11160" y="-3240"/>
            <a:ext cx="9166320" cy="6897600"/>
            <a:chOff x="-11160" y="-3240"/>
            <a:chExt cx="9166320" cy="6897600"/>
          </a:xfrm>
        </p:grpSpPr>
        <p:grpSp>
          <p:nvGrpSpPr>
            <p:cNvPr id="1" name="Group 19"/>
            <p:cNvGrpSpPr/>
            <p:nvPr/>
          </p:nvGrpSpPr>
          <p:grpSpPr>
            <a:xfrm>
              <a:off x="-11160" y="15840"/>
              <a:ext cx="9166320" cy="6878520"/>
              <a:chOff x="-11160" y="15840"/>
              <a:chExt cx="9166320" cy="6878520"/>
            </a:xfrm>
          </p:grpSpPr>
          <p:sp>
            <p:nvSpPr>
              <p:cNvPr id="2" name="Freeform 8"/>
              <p:cNvSpPr/>
              <p:nvPr/>
            </p:nvSpPr>
            <p:spPr>
              <a:xfrm>
                <a:off x="-11160" y="1836720"/>
                <a:ext cx="2268720" cy="2709720"/>
              </a:xfrm>
              <a:prstGeom prst="pie">
                <a:avLst/>
              </a:prstGeom>
              <a:gradFill rotWithShape="0">
                <a:gsLst>
                  <a:gs pos="0">
                    <a:srgbClr val="7176bb"/>
                  </a:gs>
                  <a:gs pos="100000">
                    <a:srgbClr val="00007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3" name="Freeform 9"/>
              <p:cNvSpPr/>
              <p:nvPr/>
            </p:nvSpPr>
            <p:spPr>
              <a:xfrm>
                <a:off x="108000" y="15840"/>
                <a:ext cx="838080" cy="787320"/>
              </a:xfrm>
              <a:prstGeom prst="pie">
                <a:avLst/>
              </a:prstGeom>
              <a:gradFill rotWithShape="0">
                <a:gsLst>
                  <a:gs pos="0">
                    <a:srgbClr val="fcab40"/>
                  </a:gs>
                  <a:gs pos="100000">
                    <a:srgbClr val="00007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4" name="Freeform 10"/>
              <p:cNvSpPr/>
              <p:nvPr/>
            </p:nvSpPr>
            <p:spPr>
              <a:xfrm>
                <a:off x="1192320" y="353880"/>
                <a:ext cx="2266920" cy="2270160"/>
              </a:xfrm>
              <a:prstGeom prst="pie">
                <a:avLst/>
              </a:prstGeom>
              <a:gradFill rotWithShape="0">
                <a:gsLst>
                  <a:gs pos="0">
                    <a:srgbClr val="000054"/>
                  </a:gs>
                  <a:gs pos="100000">
                    <a:srgbClr val="00007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5" name="Freeform 11"/>
              <p:cNvSpPr/>
              <p:nvPr/>
            </p:nvSpPr>
            <p:spPr>
              <a:xfrm>
                <a:off x="2532240" y="1270080"/>
                <a:ext cx="3670200" cy="3671640"/>
              </a:xfrm>
              <a:prstGeom prst="pie">
                <a:avLst/>
              </a:prstGeom>
              <a:gradFill rotWithShape="0">
                <a:gsLst>
                  <a:gs pos="0">
                    <a:srgbClr val="00007a"/>
                  </a:gs>
                  <a:gs pos="100000">
                    <a:srgbClr val="00005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6" name="Freeform 13"/>
              <p:cNvSpPr/>
              <p:nvPr/>
            </p:nvSpPr>
            <p:spPr>
              <a:xfrm>
                <a:off x="3240" y="4797360"/>
                <a:ext cx="3417840" cy="2097000"/>
              </a:xfrm>
              <a:prstGeom prst="pie">
                <a:avLst/>
              </a:prstGeom>
              <a:solidFill>
                <a:srgbClr val="00007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7" name="Freeform 14"/>
              <p:cNvSpPr/>
              <p:nvPr/>
            </p:nvSpPr>
            <p:spPr>
              <a:xfrm>
                <a:off x="4494240" y="4425840"/>
                <a:ext cx="2263680" cy="2264040"/>
              </a:xfrm>
              <a:prstGeom prst="pie">
                <a:avLst/>
              </a:prstGeom>
              <a:gradFill rotWithShape="0">
                <a:gsLst>
                  <a:gs pos="0">
                    <a:srgbClr val="000054"/>
                  </a:gs>
                  <a:gs pos="100000">
                    <a:srgbClr val="00007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8" name="Freeform 15"/>
              <p:cNvSpPr/>
              <p:nvPr/>
            </p:nvSpPr>
            <p:spPr>
              <a:xfrm>
                <a:off x="5646600" y="487440"/>
                <a:ext cx="2928960" cy="2930400"/>
              </a:xfrm>
              <a:prstGeom prst="pie">
                <a:avLst/>
              </a:prstGeom>
              <a:gradFill rotWithShape="0">
                <a:gsLst>
                  <a:gs pos="0">
                    <a:srgbClr val="00007a"/>
                  </a:gs>
                  <a:gs pos="100000">
                    <a:srgbClr val="00005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9" name="Freeform 16"/>
              <p:cNvSpPr/>
              <p:nvPr/>
            </p:nvSpPr>
            <p:spPr>
              <a:xfrm>
                <a:off x="7147080" y="2556000"/>
                <a:ext cx="2008080" cy="3997080"/>
              </a:xfrm>
              <a:prstGeom prst="pie">
                <a:avLst/>
              </a:prstGeom>
              <a:gradFill rotWithShape="0">
                <a:gsLst>
                  <a:gs pos="0">
                    <a:srgbClr val="00007a"/>
                  </a:gs>
                  <a:gs pos="100000">
                    <a:srgbClr val="555bad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</p:grpSp>
        <p:pic>
          <p:nvPicPr>
            <p:cNvPr id="10" name="Picture 12" descr="Facbanna"/>
            <p:cNvPicPr/>
            <p:nvPr/>
          </p:nvPicPr>
          <p:blipFill>
            <a:blip r:embed="rId2"/>
            <a:stretch/>
          </p:blipFill>
          <p:spPr>
            <a:xfrm>
              <a:off x="3240" y="-3240"/>
              <a:ext cx="80316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fcab4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7176b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D68AF-D134-4DB3-BCB8-69095AD56A78}" type="slidenum"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A6AA9-F628-439D-AFBD-B54660B94C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3"/>
          <p:cNvGrpSpPr/>
          <p:nvPr/>
        </p:nvGrpSpPr>
        <p:grpSpPr>
          <a:xfrm>
            <a:off x="-11160" y="-3240"/>
            <a:ext cx="9166320" cy="6897600"/>
            <a:chOff x="-11160" y="-3240"/>
            <a:chExt cx="9166320" cy="6897600"/>
          </a:xfrm>
        </p:grpSpPr>
        <p:grpSp>
          <p:nvGrpSpPr>
            <p:cNvPr id="94" name="Group 22"/>
            <p:cNvGrpSpPr/>
            <p:nvPr/>
          </p:nvGrpSpPr>
          <p:grpSpPr>
            <a:xfrm>
              <a:off x="-11160" y="-360"/>
              <a:ext cx="9166320" cy="6894720"/>
              <a:chOff x="-11160" y="-360"/>
              <a:chExt cx="9166320" cy="6894720"/>
            </a:xfrm>
          </p:grpSpPr>
          <p:sp>
            <p:nvSpPr>
              <p:cNvPr id="95" name="Freeform 3"/>
              <p:cNvSpPr/>
              <p:nvPr/>
            </p:nvSpPr>
            <p:spPr>
              <a:xfrm>
                <a:off x="-11160" y="1836720"/>
                <a:ext cx="2268720" cy="2709720"/>
              </a:xfrm>
              <a:prstGeom prst="pie">
                <a:avLst/>
              </a:prstGeom>
              <a:gradFill rotWithShape="0">
                <a:gsLst>
                  <a:gs pos="0">
                    <a:srgbClr val="7176bb"/>
                  </a:gs>
                  <a:gs pos="100000">
                    <a:srgbClr val="00007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96" name="Freeform 4"/>
              <p:cNvSpPr/>
              <p:nvPr/>
            </p:nvSpPr>
            <p:spPr>
              <a:xfrm>
                <a:off x="108000" y="15840"/>
                <a:ext cx="838080" cy="787320"/>
              </a:xfrm>
              <a:prstGeom prst="pie">
                <a:avLst/>
              </a:prstGeom>
              <a:gradFill rotWithShape="0">
                <a:gsLst>
                  <a:gs pos="0">
                    <a:srgbClr val="fcab40"/>
                  </a:gs>
                  <a:gs pos="100000">
                    <a:srgbClr val="00007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97" name="Freeform 5"/>
              <p:cNvSpPr/>
              <p:nvPr/>
            </p:nvSpPr>
            <p:spPr>
              <a:xfrm>
                <a:off x="1192320" y="353880"/>
                <a:ext cx="2266920" cy="2270160"/>
              </a:xfrm>
              <a:prstGeom prst="pie">
                <a:avLst/>
              </a:prstGeom>
              <a:gradFill rotWithShape="0">
                <a:gsLst>
                  <a:gs pos="0">
                    <a:srgbClr val="000054"/>
                  </a:gs>
                  <a:gs pos="100000">
                    <a:srgbClr val="00007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98" name="Freeform 6"/>
              <p:cNvSpPr/>
              <p:nvPr/>
            </p:nvSpPr>
            <p:spPr>
              <a:xfrm>
                <a:off x="2532240" y="1270080"/>
                <a:ext cx="3670200" cy="3671640"/>
              </a:xfrm>
              <a:prstGeom prst="pie">
                <a:avLst/>
              </a:prstGeom>
              <a:gradFill rotWithShape="0">
                <a:gsLst>
                  <a:gs pos="0">
                    <a:srgbClr val="00007a"/>
                  </a:gs>
                  <a:gs pos="100000">
                    <a:srgbClr val="00005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99" name="Freeform 8"/>
              <p:cNvSpPr/>
              <p:nvPr/>
            </p:nvSpPr>
            <p:spPr>
              <a:xfrm>
                <a:off x="3240" y="4797360"/>
                <a:ext cx="3417840" cy="2097000"/>
              </a:xfrm>
              <a:prstGeom prst="pie">
                <a:avLst/>
              </a:prstGeom>
              <a:solidFill>
                <a:srgbClr val="00007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100" name="Freeform 9"/>
              <p:cNvSpPr/>
              <p:nvPr/>
            </p:nvSpPr>
            <p:spPr>
              <a:xfrm>
                <a:off x="4494240" y="4425840"/>
                <a:ext cx="2263680" cy="2264040"/>
              </a:xfrm>
              <a:prstGeom prst="pie">
                <a:avLst/>
              </a:prstGeom>
              <a:gradFill rotWithShape="0">
                <a:gsLst>
                  <a:gs pos="0">
                    <a:srgbClr val="000054"/>
                  </a:gs>
                  <a:gs pos="100000">
                    <a:srgbClr val="00007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101" name="Freeform 10"/>
              <p:cNvSpPr/>
              <p:nvPr/>
            </p:nvSpPr>
            <p:spPr>
              <a:xfrm>
                <a:off x="5646600" y="487440"/>
                <a:ext cx="2928960" cy="2930400"/>
              </a:xfrm>
              <a:prstGeom prst="pie">
                <a:avLst/>
              </a:prstGeom>
              <a:gradFill rotWithShape="0">
                <a:gsLst>
                  <a:gs pos="0">
                    <a:srgbClr val="00007a"/>
                  </a:gs>
                  <a:gs pos="100000">
                    <a:srgbClr val="00005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102" name="Freeform 11"/>
              <p:cNvSpPr/>
              <p:nvPr/>
            </p:nvSpPr>
            <p:spPr>
              <a:xfrm>
                <a:off x="7147080" y="2556000"/>
                <a:ext cx="2008080" cy="3997080"/>
              </a:xfrm>
              <a:prstGeom prst="pie">
                <a:avLst/>
              </a:prstGeom>
              <a:gradFill rotWithShape="0">
                <a:gsLst>
                  <a:gs pos="0">
                    <a:srgbClr val="00007a"/>
                  </a:gs>
                  <a:gs pos="100000">
                    <a:srgbClr val="555bad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103" name="Freeform 19"/>
              <p:cNvSpPr/>
              <p:nvPr/>
            </p:nvSpPr>
            <p:spPr>
              <a:xfrm rot="16200000">
                <a:off x="3977280" y="-853200"/>
                <a:ext cx="1722600" cy="3429000"/>
              </a:xfrm>
              <a:prstGeom prst="pie">
                <a:avLst/>
              </a:prstGeom>
              <a:gradFill rotWithShape="0">
                <a:gsLst>
                  <a:gs pos="0">
                    <a:srgbClr val="00007a"/>
                  </a:gs>
                  <a:gs pos="100000">
                    <a:srgbClr val="555bad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</p:grpSp>
        <p:pic>
          <p:nvPicPr>
            <p:cNvPr id="104" name="Picture 7" descr="Facbanna"/>
            <p:cNvPicPr/>
            <p:nvPr/>
          </p:nvPicPr>
          <p:blipFill>
            <a:blip r:embed="rId2"/>
            <a:stretch/>
          </p:blipFill>
          <p:spPr>
            <a:xfrm>
              <a:off x="3240" y="-3240"/>
              <a:ext cx="80316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fcab4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7176b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7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CA085-3068-4ED3-A896-371CCFC5D15D}" type="slidenum"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images.google.com/imgres?imgurl=http://session2005.adventist.org/media-kit/photos/st_louis/st_louis-arch-sky_blue.jpg&amp;imgrefurl=http://session2005.adventist.org/media-kit/photos/st_louis/index.html&amp;h=3024&amp;w=2016&amp;sz=1787&amp;hl=en&amp;start=4&amp;tbnid=iWfIB4GPnEtdpM:&amp;tbnh=150&amp;tbnw=100&amp;prev=/images%3Fq%3Dst%2Blouis%2Barch%26gbv%3D2%26hl%3Den" TargetMode="External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ct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learning-to-lead.org/userimages/leadership(1).jpg&amp;imgrefurl=http://fatihtepe.com/&amp;h=316&amp;w=448&amp;sz=60&amp;hl=en&amp;start=3&amp;um=1&amp;tbnid=ne0Qwx0-w9pSyM:&amp;tbnh=90&amp;tbnw=127&amp;prev=/images%3Fq%3Dleadership%26um%3D1%26hl%3Den%26rls%3Dcom.microsoft:en-us%26sa%3DX" TargetMode="Externa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frenchgeneralstore.com/bags/img/bag.jpg&amp;imgrefurl=http://www.frenchgeneralstore.com/bags/bags.html&amp;h=550&amp;w=396&amp;sz=103&amp;hl=en&amp;start=7&amp;um=1&amp;tbnid=67rj-Ktz9NJW4M:&amp;tbnh=133&amp;tbnw=96&amp;prev=/images%3Fq%3Dbag%26um%3D1%26hl%3Den%26sa%3DN" TargetMode="External"/><Relationship Id="rId2" Type="http://schemas.openxmlformats.org/officeDocument/2006/relationships/image" Target="../media/image25.jpeg"/><Relationship Id="rId3" Type="http://schemas.openxmlformats.org/officeDocument/2006/relationships/hyperlink" Target="http://images.google.com/imgres?imgurl=http://www.geekalerts.com/u/small-boombox-bag.jpg&amp;imgrefurl=http://www.geekalerts.com/boombox-bags-for-retro-geeks/&amp;h=435&amp;w=350&amp;sz=30&amp;hl=en&amp;start=2&amp;um=1&amp;tbnid=Y8nqX9RmV4sLeM:&amp;tbnh=126&amp;tbnw=101&amp;prev=/images%3Fq%3Dbag%26um%3D1%26hl%3Den%26sa%3DN" TargetMode="External"/><Relationship Id="rId4" Type="http://schemas.openxmlformats.org/officeDocument/2006/relationships/image" Target="../media/image26.jpeg"/><Relationship Id="rId5" Type="http://schemas.openxmlformats.org/officeDocument/2006/relationships/hyperlink" Target="http://images.google.com/imgres?imgurl=http://www.marloscrochetcorner.com/images/10-4%20cm%20felt%20bag.jpg&amp;imgrefurl=http://www.marloscrochetcorner.com/patterns%20for%20sale.html&amp;h=364&amp;w=400&amp;sz=37&amp;hl=en&amp;start=24&amp;um=1&amp;tbnid=2y1g1QiPy2l5HM:&amp;tbnh=113&amp;tbnw=124&amp;prev=/images%3Fq%3Dbag%26start%3D20%26ndsp%3D20%26um%3D1%26hl%3Den%26sa%3DN" TargetMode="External"/><Relationship Id="rId6" Type="http://schemas.openxmlformats.org/officeDocument/2006/relationships/image" Target="../media/image27.jpeg"/><Relationship Id="rId7" Type="http://schemas.openxmlformats.org/officeDocument/2006/relationships/hyperlink" Target="http://images.google.com/imgres?imgurl=http://www.inprintmarden.co.uk/images/bag-manufacturer-uk.jpg&amp;imgrefurl=http://www.inprintmarden.co.uk/bag-manufacturer.html&amp;h=323&amp;w=354&amp;sz=21&amp;hl=en&amp;start=35&amp;um=1&amp;tbnid=NsR4GWh-j3uo2M:&amp;tbnh=110&amp;tbnw=121&amp;prev=/images%3Fq%3Dbag%26start%3D20%26ndsp%3D20%26um%3D1%26hl%3Den%26sa%3DN" TargetMode="External"/><Relationship Id="rId8" Type="http://schemas.openxmlformats.org/officeDocument/2006/relationships/image" Target="../media/image28.jpeg"/><Relationship Id="rId9" Type="http://schemas.openxmlformats.org/officeDocument/2006/relationships/hyperlink" Target="http://images.google.com/imgres?imgurl=http://www.clowncostumes.com/images/Prop%20Bag.jpg&amp;imgrefurl=http://www.clowncostumes.com/clown_bags_banners.htm&amp;h=951&amp;w=1200&amp;sz=131&amp;hl=en&amp;start=43&amp;um=1&amp;tbnid=2p87YQ2lt5ZazM:&amp;tbnh=119&amp;tbnw=150&amp;prev=/images%3Fq%3Dbag%26start%3D40%26ndsp%3D20%26um%3D1%26hl%3Den%26sa%3DN" TargetMode="External"/><Relationship Id="rId10" Type="http://schemas.openxmlformats.org/officeDocument/2006/relationships/image" Target="../media/image29.jpeg"/><Relationship Id="rId11" Type="http://schemas.openxmlformats.org/officeDocument/2006/relationships/image" Target="../media/image30.jpeg"/><Relationship Id="rId1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Impact"/>
              </a:rPr>
              <a:t>Synchronize Your Gears</a:t>
            </a: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 Narrow"/>
              </a:rPr>
              <a:t>What gear are you in?</a:t>
            </a:r>
            <a:br>
              <a:rPr sz="4400"/>
            </a:br>
            <a:endParaRPr b="0" lang="en-US" sz="4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Impact"/>
              </a:rPr>
              <a:t>The Relationships of Career Clusters and Program of Study</a:t>
            </a:r>
            <a:endParaRPr b="0" lang="en-US" sz="40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06668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Career Cluster – NATIONAL </a:t>
            </a:r>
            <a:r>
              <a:rPr b="0" i="1" lang="en-US" sz="1800" spc="-1" strike="noStrike">
                <a:solidFill>
                  <a:srgbClr val="eaeaea"/>
                </a:solidFill>
                <a:latin typeface="Arial Narrow"/>
              </a:rPr>
              <a:t>(Human Services)</a:t>
            </a: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www.careerclusters.org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An organizing tool that groups occupations and careers based on common knowledge and skills.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Career Path – STATE </a:t>
            </a:r>
            <a:r>
              <a:rPr b="0" i="1" lang="en-US" sz="1800" spc="-1" strike="noStrike">
                <a:solidFill>
                  <a:srgbClr val="eaeaea"/>
                </a:solidFill>
                <a:latin typeface="Arial Narrow"/>
              </a:rPr>
              <a:t>(Human Services)</a:t>
            </a: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Missouri’s model for career development.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Career Pathway </a:t>
            </a:r>
            <a:r>
              <a:rPr b="0" i="1" lang="en-US" sz="1800" spc="-1" strike="noStrike">
                <a:solidFill>
                  <a:srgbClr val="eaeaea"/>
                </a:solidFill>
                <a:latin typeface="Arial Narrow"/>
              </a:rPr>
              <a:t>(Early Childhood Development &amp; Services)</a:t>
            </a: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Listings of occupations that share advanced technical skills and/or common roles within a career cluster.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Program of Study </a:t>
            </a:r>
            <a:r>
              <a:rPr b="0" i="1" lang="en-US" sz="1800" spc="-1" strike="noStrike">
                <a:solidFill>
                  <a:srgbClr val="eaeaea"/>
                </a:solidFill>
                <a:latin typeface="Arial Narrow"/>
              </a:rPr>
              <a:t>(To be developed at the local level.)</a:t>
            </a: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A systematic framework for a new way of doing business in our high schools, colleges, and universities.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Personal Plan of Study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To be developed at the local level for individual students.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A student’s scope and sequence of coursework and co-curricular experiences.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Impact"/>
              </a:rPr>
              <a:t>What does this mean….</a:t>
            </a: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A student’s personal plan of study should reflect a program of study, but it should also be individualized for that student’s career interests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It’s more than a job, it’s a career choice for students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This provides our students with opportunities to focus on a career path.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Establishing career path relevance 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can help to justify your program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87" name="Picture 4" descr="MCj02853980000[1]"/>
          <p:cNvPicPr/>
          <p:nvPr/>
        </p:nvPicPr>
        <p:blipFill>
          <a:blip r:embed="rId1"/>
          <a:stretch/>
        </p:blipFill>
        <p:spPr>
          <a:xfrm>
            <a:off x="6019920" y="4003560"/>
            <a:ext cx="2666880" cy="24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Impact"/>
              </a:rPr>
              <a:t>How Does FCCLA Fit In?</a:t>
            </a: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FCCLA incorporated into a personal plan of study can develop personal qualities such as leadership and teamwork. 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Leadership skills that students learn in your classroom through FCCLA activities can be assessed and used to further justify your program.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90" name="Picture 4" descr="taglinelogobw"/>
          <p:cNvPicPr/>
          <p:nvPr/>
        </p:nvPicPr>
        <p:blipFill>
          <a:blip r:embed="rId1"/>
          <a:stretch/>
        </p:blipFill>
        <p:spPr>
          <a:xfrm>
            <a:off x="3657600" y="4876920"/>
            <a:ext cx="2971800" cy="172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Impact"/>
              </a:rPr>
              <a:t>TARGET DATE</a:t>
            </a:r>
            <a:r>
              <a:rPr b="0" lang="en-US" sz="4400" spc="-1" strike="noStrike">
                <a:solidFill>
                  <a:srgbClr val="ebd189"/>
                </a:solidFill>
                <a:latin typeface="Impact"/>
              </a:rPr>
              <a:t>	</a:t>
            </a:r>
            <a:r>
              <a:rPr b="0" lang="en-US" sz="4400" spc="-1" strike="noStrike">
                <a:solidFill>
                  <a:srgbClr val="ebd189"/>
                </a:solidFill>
                <a:latin typeface="Impact"/>
              </a:rPr>
              <a:t>-</a:t>
            </a:r>
            <a:r>
              <a:rPr b="0" lang="en-US" sz="4400" spc="-1" strike="noStrike">
                <a:solidFill>
                  <a:srgbClr val="ebd189"/>
                </a:solidFill>
                <a:latin typeface="Impact"/>
              </a:rPr>
              <a:t>	</a:t>
            </a:r>
            <a:r>
              <a:rPr b="0" lang="en-US" sz="4400" spc="-1" strike="noStrike">
                <a:solidFill>
                  <a:srgbClr val="ebd189"/>
                </a:solidFill>
                <a:latin typeface="Impact"/>
              </a:rPr>
              <a:t>TARGET DATE</a:t>
            </a: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The target date for the implementation of this process….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Within the next 3 years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93" name="Picture 4" descr="ages"/>
          <p:cNvPicPr/>
          <p:nvPr/>
        </p:nvPicPr>
        <p:blipFill>
          <a:blip r:embed="rId1"/>
          <a:stretch/>
        </p:blipFill>
        <p:spPr>
          <a:xfrm>
            <a:off x="5486400" y="2971800"/>
            <a:ext cx="2514600" cy="21258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5" descr="N3KX8CAO1DRGHCA65ZR4ECA6NNZJBCAPF6DPJCAID6VGGCAVSPFNQCATCUPW5CANK0UI6CAPPUXC0CA83NXNTCAYBVN19CAWRPZ4FCAUL1BR8CAQFL40ECA460HRHCAPLJJ2ZCAJWT2K6CAJN9APOCAV2XA96"/>
          <p:cNvPicPr/>
          <p:nvPr/>
        </p:nvPicPr>
        <p:blipFill>
          <a:blip r:embed="rId2"/>
          <a:stretch/>
        </p:blipFill>
        <p:spPr>
          <a:xfrm>
            <a:off x="2209680" y="350532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Impact"/>
              </a:rPr>
              <a:t>What does this mean for you?</a:t>
            </a:r>
            <a:br>
              <a:rPr sz="4000"/>
            </a:br>
            <a:r>
              <a:rPr b="0" lang="en-US" sz="4000" spc="-1" strike="noStrike">
                <a:solidFill>
                  <a:srgbClr val="ebd189"/>
                </a:solidFill>
                <a:latin typeface="Impact"/>
              </a:rPr>
              <a:t>	</a:t>
            </a:r>
            <a:r>
              <a:rPr b="0" lang="en-US" sz="4000" spc="-1" strike="noStrike">
                <a:solidFill>
                  <a:srgbClr val="ebd189"/>
                </a:solidFill>
                <a:latin typeface="Impact"/>
              </a:rPr>
              <a:t>Refresh, Energize, and Unite</a:t>
            </a:r>
            <a:endParaRPr b="0" lang="en-US" sz="40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You don’t have to make these changes on your own…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Family and Consumer Sciences teachers will have the opportunity to support and encourage each other in the design and implementation of curriculum and programs of study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97" name="Picture 4" descr="MCj02379820000[1]"/>
          <p:cNvPicPr/>
          <p:nvPr/>
        </p:nvPicPr>
        <p:blipFill>
          <a:blip r:embed="rId1"/>
          <a:stretch/>
        </p:blipFill>
        <p:spPr>
          <a:xfrm>
            <a:off x="4724280" y="3962520"/>
            <a:ext cx="3124440" cy="27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All Family and Consumer Sciences programs across the state will be united. 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WE ARE IN THIS TOGETHER!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fcab4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mall and Large Family &amp; Consumer Science Programs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fcab4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Rural, Urban, and Inner City Family &amp; Consumer Science Programs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99" name="Picture 6" descr="KA22JCAYULATOCAJ9Y5QVCAXQO69NCA127KQGCAXFX2U9CAQA24O8CAM50AJDCA2P8R81CAMG58MPCAT0ORYACA651NGDCAAB7JI3CAJ8LBYYCA3Z11VOCA2AQR1NCA3KYJAJCAUF809PCA5UBS87CA5SVI35"/>
          <p:cNvPicPr/>
          <p:nvPr/>
        </p:nvPicPr>
        <p:blipFill>
          <a:blip r:embed="rId1"/>
          <a:stretch/>
        </p:blipFill>
        <p:spPr>
          <a:xfrm>
            <a:off x="3276720" y="4495680"/>
            <a:ext cx="1752480" cy="14194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8" descr="st_louis-arch-sky_blu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334120" y="4419720"/>
            <a:ext cx="1206360" cy="18097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9" descr="DPI7JCADLX7EWCAL2NOD2CA2EKG8KCARBIC7YCAURL5YICABW5MOJCA1YJ7MQCADRR6HNCAKFZ2FZCAZG41K7CA1WRN5OCA43D3OECA7889OXCAEPTWIXCAILUET6CAS8CQ69CAGBRITLCAO03D32CAH132TI"/>
          <p:cNvPicPr/>
          <p:nvPr/>
        </p:nvPicPr>
        <p:blipFill>
          <a:blip r:embed="rId4"/>
          <a:stretch/>
        </p:blipFill>
        <p:spPr>
          <a:xfrm>
            <a:off x="1371600" y="4495680"/>
            <a:ext cx="1523880" cy="14493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0" descr="VQ156CA09EYTJCA0UB7N5CAJYZ1Q0CACYQ0KDCAYEZT4QCANJSCUHCAB8ZC2PCAO64N32CAGXU9MWCA6IH695CAK2YOH0CAKGSTBUCANGSPB6CAIPINF3CAMG0UNGCARKEJEBCAPQ99NTCAFQOSTTCAHT5ZJB"/>
          <p:cNvPicPr/>
          <p:nvPr/>
        </p:nvPicPr>
        <p:blipFill>
          <a:blip r:embed="rId5"/>
          <a:stretch/>
        </p:blipFill>
        <p:spPr>
          <a:xfrm>
            <a:off x="6705720" y="4495680"/>
            <a:ext cx="190476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Impact"/>
              </a:rPr>
              <a:t>Reinforcing What We’re Already Using</a:t>
            </a:r>
            <a:endParaRPr b="0" lang="en-US" sz="40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Process Skills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Use scoring guides to assess your lessons to increase depth of learning. 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FREE Scoring guides are available at mcce.org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Rigor, Relevance, and Relationships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Critical Thinking Skills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FCCLA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205" name="Picture 4" descr="bd04996_"/>
          <p:cNvPicPr/>
          <p:nvPr/>
        </p:nvPicPr>
        <p:blipFill>
          <a:blip r:embed="rId1"/>
          <a:stretch/>
        </p:blipFill>
        <p:spPr>
          <a:xfrm>
            <a:off x="5410080" y="4191120"/>
            <a:ext cx="2438640" cy="24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Impact"/>
              </a:rPr>
              <a:t>We Want To Challenge You</a:t>
            </a: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Get into gear….</a:t>
            </a:r>
            <a:endParaRPr b="0" lang="en-US" sz="40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1001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aeaea"/>
                </a:solidFill>
                <a:latin typeface="Arial Narrow"/>
              </a:rPr>
              <a:t>As Missouri seamlessly adopts the National Standards, this means…</a:t>
            </a:r>
            <a:endParaRPr b="0" lang="en-US" sz="40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901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aeaea"/>
                </a:solidFill>
                <a:latin typeface="Arial Narrow"/>
              </a:rPr>
              <a:t>You will have fewer but broader standards to teach.</a:t>
            </a:r>
            <a:endParaRPr b="0" lang="en-US" sz="36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901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aeaea"/>
                </a:solidFill>
                <a:latin typeface="Arial Narrow"/>
              </a:rPr>
              <a:t>More individuality in lesson                   plan design.</a:t>
            </a:r>
            <a:endParaRPr b="0" lang="en-US" sz="36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208" name="Picture 4" descr="MCj04315260000[1]"/>
          <p:cNvPicPr/>
          <p:nvPr/>
        </p:nvPicPr>
        <p:blipFill>
          <a:blip r:embed="rId1"/>
          <a:stretch/>
        </p:blipFill>
        <p:spPr>
          <a:xfrm>
            <a:off x="5029200" y="129528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5" descr="MCj04315260000[1]"/>
          <p:cNvPicPr/>
          <p:nvPr/>
        </p:nvPicPr>
        <p:blipFill>
          <a:blip r:embed="rId2"/>
          <a:stretch/>
        </p:blipFill>
        <p:spPr>
          <a:xfrm>
            <a:off x="7010280" y="4648320"/>
            <a:ext cx="167652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914400" y="228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eaeaea"/>
                </a:solidFill>
                <a:uFillTx/>
                <a:latin typeface="Arial Narrow"/>
              </a:rPr>
              <a:t>It is imperative that what you teach builds a family foundation AND leads to a career.</a:t>
            </a:r>
            <a:endParaRPr b="0" lang="en-US" sz="36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Let it be known that what you are teaching…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fcab4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Leads to a career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fcab4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Is part of the solution to family life issues that are happening all over the nation </a:t>
            </a: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11" name="WordArt 5"/>
          <p:cNvSpPr txBox="1"/>
          <p:nvPr/>
        </p:nvSpPr>
        <p:spPr>
          <a:xfrm>
            <a:off x="380880" y="3733920"/>
            <a:ext cx="265752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Bankrupc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12" name="WordArt 6"/>
          <p:cNvSpPr txBox="1"/>
          <p:nvPr/>
        </p:nvSpPr>
        <p:spPr>
          <a:xfrm>
            <a:off x="304920" y="3352680"/>
            <a:ext cx="15238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Obesity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3" name="WordArt 8"/>
          <p:cNvSpPr txBox="1"/>
          <p:nvPr/>
        </p:nvSpPr>
        <p:spPr>
          <a:xfrm>
            <a:off x="6019920" y="5257800"/>
            <a:ext cx="25146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Time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Managemen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214" name="WordArt 9"/>
          <p:cNvSpPr txBox="1"/>
          <p:nvPr/>
        </p:nvSpPr>
        <p:spPr>
          <a:xfrm>
            <a:off x="3657600" y="3809880"/>
            <a:ext cx="12952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Divorce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5" name="WordArt 10"/>
          <p:cNvSpPr txBox="1"/>
          <p:nvPr/>
        </p:nvSpPr>
        <p:spPr>
          <a:xfrm>
            <a:off x="1295280" y="4724280"/>
            <a:ext cx="243864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Child Abuse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6" name="WordArt 11"/>
          <p:cNvSpPr txBox="1"/>
          <p:nvPr/>
        </p:nvSpPr>
        <p:spPr>
          <a:xfrm>
            <a:off x="3962520" y="4952880"/>
            <a:ext cx="259056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Substance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buse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WordArt 12"/>
          <p:cNvSpPr txBox="1"/>
          <p:nvPr/>
        </p:nvSpPr>
        <p:spPr>
          <a:xfrm>
            <a:off x="6172200" y="3733920"/>
            <a:ext cx="234324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Incarceration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837720" y="1371240"/>
            <a:ext cx="5791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What does YOUR community need?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Find out…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Advisory committee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Career data 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Employability skills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High Skill, High Wage, or High Demand occupations is our target.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We need to teach what data indicates is needed, not what we traditionally like or are comfortable teaching.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Impact"/>
              </a:rPr>
              <a:t>Data Drives What is Taught</a:t>
            </a: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pic>
        <p:nvPicPr>
          <p:cNvPr id="220" name="Picture 8" descr="RIWRHCAFJF3Z1CARSCU7HCATVDOL7CA5B49H0CASH1CV8CAM37U0XCA1RC9XFCA3S3O5MCAGSU2ARCAQCNIRRCAUPCPSCCAVMMXT2CAQ2CUQSCAG14RI1CA42CGX5CAJXRJOECALH64IOCAZAR1XWCAFW0UNK"/>
          <p:cNvPicPr/>
          <p:nvPr/>
        </p:nvPicPr>
        <p:blipFill>
          <a:blip r:embed="rId1"/>
          <a:stretch/>
        </p:blipFill>
        <p:spPr>
          <a:xfrm>
            <a:off x="6019920" y="1676520"/>
            <a:ext cx="2666880" cy="23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Impact"/>
              </a:rPr>
              <a:t>The Big Picture</a:t>
            </a: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 Narrow"/>
              </a:rPr>
              <a:t>Where we’ve been.</a:t>
            </a:r>
            <a:endParaRPr b="0" lang="en-US" sz="40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1001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 Narrow"/>
              </a:rPr>
              <a:t>Where we are.</a:t>
            </a:r>
            <a:endParaRPr b="0" lang="en-US" sz="40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1001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 Narrow"/>
              </a:rPr>
              <a:t>Where we are going. </a:t>
            </a:r>
            <a:endParaRPr b="0" lang="en-US" sz="40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57" name="Picture 4" descr="MCj02313910000[1]"/>
          <p:cNvPicPr/>
          <p:nvPr/>
        </p:nvPicPr>
        <p:blipFill>
          <a:blip r:embed="rId1"/>
          <a:stretch/>
        </p:blipFill>
        <p:spPr>
          <a:xfrm>
            <a:off x="5029200" y="1523880"/>
            <a:ext cx="3733920" cy="35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Impact"/>
              </a:rPr>
              <a:t>Work of the Family</a:t>
            </a:r>
            <a:r>
              <a:rPr b="0" lang="en-US" sz="4400" spc="-1" strike="noStrike">
                <a:solidFill>
                  <a:srgbClr val="ebd189"/>
                </a:solidFill>
                <a:latin typeface="Impact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1000"/>
          </a:bodyPr>
          <a:p>
            <a:pPr marL="106200" indent="-10620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The ultimate human service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106200" indent="-1062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100% demand.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Elevator Speech / 30 Second Speech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106200" indent="-10620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Components of Work &amp; Family Life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lvl="1" marL="230040" indent="-88560">
              <a:lnSpc>
                <a:spcPct val="90000"/>
              </a:lnSpc>
              <a:spcBef>
                <a:spcPts val="601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Relationship Skills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lvl="1" marL="230040" indent="-88560">
              <a:lnSpc>
                <a:spcPct val="90000"/>
              </a:lnSpc>
              <a:spcBef>
                <a:spcPts val="601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Human Development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lvl="1" marL="230040" indent="-88560">
              <a:lnSpc>
                <a:spcPct val="90000"/>
              </a:lnSpc>
              <a:spcBef>
                <a:spcPts val="601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Health &amp; Wellness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lvl="1" marL="230040" indent="-88560">
              <a:lnSpc>
                <a:spcPct val="90000"/>
              </a:lnSpc>
              <a:spcBef>
                <a:spcPts val="601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Financial Competence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lvl="1" marL="230040" indent="-88560">
              <a:lnSpc>
                <a:spcPct val="90000"/>
              </a:lnSpc>
              <a:spcBef>
                <a:spcPts val="601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Leadership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lvl="1" marL="230040" indent="-88560">
              <a:lnSpc>
                <a:spcPct val="90000"/>
              </a:lnSpc>
              <a:spcBef>
                <a:spcPts val="601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Critical Thinking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lvl="1" marL="230040" indent="-88560">
              <a:lnSpc>
                <a:spcPct val="90000"/>
              </a:lnSpc>
              <a:spcBef>
                <a:spcPts val="601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Problem Solving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106200" indent="-10620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In addition, an integral part of the Family and Consumer Sciences curriculum is the student organization Family, Career &amp; Community Leaders of America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lvl="1" marL="230040" indent="-88560">
              <a:lnSpc>
                <a:spcPct val="90000"/>
              </a:lnSpc>
              <a:spcBef>
                <a:spcPts val="499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Learning leadership skills through FCCLA.</a:t>
            </a: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Leadership Skill Development</a:t>
            </a:r>
            <a:br>
              <a:rPr sz="2000"/>
            </a:b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marL="106200" indent="-10620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In this training module you will learn about…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lvl="1" marL="230040" indent="-88560">
              <a:lnSpc>
                <a:spcPct val="90000"/>
              </a:lnSpc>
              <a:spcBef>
                <a:spcPts val="601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Core Leadership Skills Components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lvl="1" marL="230040" indent="-88560">
              <a:lnSpc>
                <a:spcPct val="90000"/>
              </a:lnSpc>
              <a:spcBef>
                <a:spcPts val="601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The student benefits of leadership skill development.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lvl="1" marL="230040" indent="-88560">
              <a:lnSpc>
                <a:spcPct val="90000"/>
              </a:lnSpc>
              <a:spcBef>
                <a:spcPts val="601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The community/school benefits of leadership skills development.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lvl="1" marL="230040" indent="-88560">
              <a:lnSpc>
                <a:spcPct val="90000"/>
              </a:lnSpc>
              <a:spcBef>
                <a:spcPts val="499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Be sure to attend the leadership skill module as we have new specific leadership skills that need to be taught and assessed. </a:t>
            </a: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History &amp; Rationale for Change</a:t>
            </a:r>
            <a:br>
              <a:rPr sz="2000"/>
            </a:b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marL="106200" indent="-10620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In this training module you will learn about…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lvl="1" marL="230040" indent="-88560">
              <a:lnSpc>
                <a:spcPct val="90000"/>
              </a:lnSpc>
              <a:spcBef>
                <a:spcPts val="601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The reasons for the changes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lvl="2" marL="354240" indent="-70560">
              <a:lnSpc>
                <a:spcPct val="90000"/>
              </a:lnSpc>
              <a:spcBef>
                <a:spcPts val="499"/>
              </a:spcBef>
              <a:buClr>
                <a:srgbClr val="fcab4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Federal, State, and Perkins legislation is driving these changes. 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lvl="2" marL="354240" indent="-70560">
              <a:lnSpc>
                <a:spcPct val="90000"/>
              </a:lnSpc>
              <a:spcBef>
                <a:spcPts val="499"/>
              </a:spcBef>
              <a:buClr>
                <a:srgbClr val="fcab4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Societal changes drives curriculum. 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lvl="2" marL="354240" indent="-70560">
              <a:lnSpc>
                <a:spcPct val="90000"/>
              </a:lnSpc>
              <a:spcBef>
                <a:spcPts val="499"/>
              </a:spcBef>
              <a:buClr>
                <a:srgbClr val="fcab4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Labor market data drives what is being taught and offered.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lvl="1" marL="230040" indent="-88560">
              <a:lnSpc>
                <a:spcPct val="90000"/>
              </a:lnSpc>
              <a:spcBef>
                <a:spcPts val="601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Future will be family focused, career focused.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lvl="2" marL="354240" indent="-70560">
              <a:lnSpc>
                <a:spcPct val="90000"/>
              </a:lnSpc>
              <a:spcBef>
                <a:spcPts val="499"/>
              </a:spcBef>
              <a:buClr>
                <a:srgbClr val="fcab4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Increase rigor, relevance, and relationships. 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lvl="2" marL="354240" indent="-70560">
              <a:lnSpc>
                <a:spcPct val="90000"/>
              </a:lnSpc>
              <a:spcBef>
                <a:spcPts val="451"/>
              </a:spcBef>
              <a:buClr>
                <a:srgbClr val="fcab4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Improves Family and Consumer Sciences programs to prepare students for a viable career</a:t>
            </a:r>
            <a:r>
              <a:rPr b="0" lang="en-US" sz="1800" spc="-1" strike="noStrike">
                <a:solidFill>
                  <a:srgbClr val="eaeaea"/>
                </a:solidFill>
                <a:latin typeface="Arial Narrow"/>
              </a:rPr>
              <a:t>Programs of Study Models </a:t>
            </a:r>
            <a:br>
              <a:rPr sz="1800"/>
            </a:br>
            <a:r>
              <a:rPr b="0" lang="en-US" sz="1800" spc="-1" strike="noStrike">
                <a:solidFill>
                  <a:srgbClr val="eaeaea"/>
                </a:solidFill>
                <a:latin typeface="Arial Narrow"/>
              </a:rPr>
              <a:t>- THE FINAL LINK -</a:t>
            </a: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  <a:p>
            <a:pPr marL="106200" indent="-10620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In this training module, you will learn…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lvl="1" marL="230040" indent="-88560">
              <a:lnSpc>
                <a:spcPct val="90000"/>
              </a:lnSpc>
              <a:spcBef>
                <a:spcPts val="601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How to put together all of the training pieces you’ve learned at the different training module workshops: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lvl="2" marL="354240" indent="-70560">
              <a:lnSpc>
                <a:spcPct val="90000"/>
              </a:lnSpc>
              <a:spcBef>
                <a:spcPts val="499"/>
              </a:spcBef>
              <a:buClr>
                <a:srgbClr val="fcab4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How the components of the program of study will work for students in the community where you teach.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lvl="2" marL="354240" indent="-70560">
              <a:lnSpc>
                <a:spcPct val="90000"/>
              </a:lnSpc>
              <a:spcBef>
                <a:spcPts val="499"/>
              </a:spcBef>
              <a:buClr>
                <a:srgbClr val="fcab4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Making a seamless educational program offering your students more opportunities.  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lvl="2" marL="354240" indent="-70560">
              <a:lnSpc>
                <a:spcPct val="90000"/>
              </a:lnSpc>
              <a:spcBef>
                <a:spcPts val="499"/>
              </a:spcBef>
              <a:buClr>
                <a:srgbClr val="fcab4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Helping students link current coursework with possible career pathways. 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lvl="1" marL="230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223" name="Picture 5" descr="FamilyFrontPage3"/>
          <p:cNvPicPr/>
          <p:nvPr/>
        </p:nvPicPr>
        <p:blipFill>
          <a:blip r:embed="rId1"/>
          <a:stretch/>
        </p:blipFill>
        <p:spPr>
          <a:xfrm>
            <a:off x="3886200" y="2590920"/>
            <a:ext cx="4648320" cy="34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Impact"/>
              </a:rPr>
              <a:t>So….now what? </a:t>
            </a:r>
            <a:br>
              <a:rPr sz="4000"/>
            </a:br>
            <a:r>
              <a:rPr b="0" lang="en-US" sz="4000" spc="-1" strike="noStrike">
                <a:solidFill>
                  <a:srgbClr val="ebd189"/>
                </a:solidFill>
                <a:latin typeface="Impact"/>
              </a:rPr>
              <a:t>	</a:t>
            </a:r>
            <a:r>
              <a:rPr b="0" lang="en-US" sz="4000" spc="-1" strike="noStrike">
                <a:solidFill>
                  <a:srgbClr val="ebd189"/>
                </a:solidFill>
                <a:latin typeface="Impact"/>
              </a:rPr>
              <a:t>	</a:t>
            </a:r>
            <a:r>
              <a:rPr b="0" lang="en-US" sz="4000" spc="-1" strike="noStrike">
                <a:solidFill>
                  <a:srgbClr val="ebd189"/>
                </a:solidFill>
                <a:latin typeface="Impact"/>
              </a:rPr>
              <a:t>What do we do with all of </a:t>
            </a:r>
            <a:r>
              <a:rPr b="0" lang="en-US" sz="4000" spc="-1" strike="noStrike">
                <a:solidFill>
                  <a:srgbClr val="ebd189"/>
                </a:solidFill>
                <a:latin typeface="Impact"/>
              </a:rPr>
              <a:t>	</a:t>
            </a:r>
            <a:r>
              <a:rPr b="0" lang="en-US" sz="4000" spc="-1" strike="noStrike">
                <a:solidFill>
                  <a:srgbClr val="ebd189"/>
                </a:solidFill>
                <a:latin typeface="Impact"/>
              </a:rPr>
              <a:t>	</a:t>
            </a:r>
            <a:r>
              <a:rPr b="0" lang="en-US" sz="4000" spc="-1" strike="noStrike">
                <a:solidFill>
                  <a:srgbClr val="ebd189"/>
                </a:solidFill>
                <a:latin typeface="Impact"/>
              </a:rPr>
              <a:t>	</a:t>
            </a:r>
            <a:r>
              <a:rPr b="0" lang="en-US" sz="4000" spc="-1" strike="noStrike">
                <a:solidFill>
                  <a:srgbClr val="ebd189"/>
                </a:solidFill>
                <a:latin typeface="Impact"/>
              </a:rPr>
              <a:t>	</a:t>
            </a:r>
            <a:r>
              <a:rPr b="0" lang="en-US" sz="4000" spc="-1" strike="noStrike">
                <a:solidFill>
                  <a:srgbClr val="ebd189"/>
                </a:solidFill>
                <a:latin typeface="Impact"/>
              </a:rPr>
              <a:t>	</a:t>
            </a:r>
            <a:r>
              <a:rPr b="0" lang="en-US" sz="4000" spc="-1" strike="noStrike">
                <a:solidFill>
                  <a:srgbClr val="ebd189"/>
                </a:solidFill>
                <a:latin typeface="Impact"/>
              </a:rPr>
              <a:t>this information?</a:t>
            </a:r>
            <a:endParaRPr b="0" lang="en-US" sz="40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762120" y="2133360"/>
            <a:ext cx="48765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Critical thinking, problem solving, and the process skills are still just as important as ever.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cab4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They are the </a:t>
            </a:r>
            <a:r>
              <a:rPr b="1" lang="en-US" sz="2400" spc="-1" strike="noStrike">
                <a:solidFill>
                  <a:srgbClr val="eaeaea"/>
                </a:solidFill>
                <a:latin typeface="Arial Narrow"/>
              </a:rPr>
              <a:t>foundation 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of our curriculum.  It’s easy to say we are using these skills every day in our classrooms but are we REALLY?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cab4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Are we challenging our students each and every day to be an innovative and authentic learner? 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226" name="Picture 6" descr="NowWhat"/>
          <p:cNvPicPr/>
          <p:nvPr/>
        </p:nvPicPr>
        <p:blipFill>
          <a:blip r:embed="rId1"/>
          <a:stretch/>
        </p:blipFill>
        <p:spPr>
          <a:xfrm>
            <a:off x="5867280" y="2514600"/>
            <a:ext cx="292104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426744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It’s important that as leaders in the model for what education </a:t>
            </a:r>
            <a:r>
              <a:rPr b="1" lang="en-US" sz="2400" spc="-1" strike="noStrike">
                <a:solidFill>
                  <a:srgbClr val="eaeaea"/>
                </a:solidFill>
                <a:latin typeface="Arial Narrow"/>
              </a:rPr>
              <a:t>should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 be that each and every one of us remains constant in our teaching of these skills – remember we are models to others.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We want to maintain our status as leaders of innovative thinking.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Each person needs to stay diligent.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228" name="Picture 5" descr="leadership(1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10080" y="2362320"/>
            <a:ext cx="304812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Impact"/>
              </a:rPr>
              <a:t>Be a Gear Head – Bag Your Stuff</a:t>
            </a: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Be sure to keep all of the hand outs and information you get regarding these topics in the same location for easy access.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231" name="Picture 5" descr="ba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629400" y="3048120"/>
            <a:ext cx="914400" cy="126684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7" descr="small-boombox-ba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219320" y="3276720"/>
            <a:ext cx="1342800" cy="16761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9" descr="10-4%2520cm%2520felt%2520ba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819520" y="4572000"/>
            <a:ext cx="1752480" cy="15969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1" descr="bag-manufacturer-uk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724280" y="3505320"/>
            <a:ext cx="1152720" cy="10476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3" descr="Prop%2520Bag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5257800" y="4800600"/>
            <a:ext cx="1752480" cy="13906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5" descr="polka-dot-diaper-bag"/>
          <p:cNvPicPr/>
          <p:nvPr/>
        </p:nvPicPr>
        <p:blipFill>
          <a:blip r:embed="rId11"/>
          <a:stretch/>
        </p:blipFill>
        <p:spPr>
          <a:xfrm>
            <a:off x="7391520" y="4572000"/>
            <a:ext cx="1315800" cy="15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Impact"/>
              </a:rPr>
              <a:t>Remember……</a:t>
            </a: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We are ALL on the same path. 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You are not alone.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We are ALL in this together. 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239" name="Picture 4" descr="MCj02379820000[1]"/>
          <p:cNvPicPr/>
          <p:nvPr/>
        </p:nvPicPr>
        <p:blipFill>
          <a:blip r:embed="rId1"/>
          <a:stretch/>
        </p:blipFill>
        <p:spPr>
          <a:xfrm>
            <a:off x="4876920" y="3352680"/>
            <a:ext cx="3352680" cy="290052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6" descr="together"/>
          <p:cNvPicPr/>
          <p:nvPr/>
        </p:nvPicPr>
        <p:blipFill>
          <a:blip r:embed="rId2"/>
          <a:stretch/>
        </p:blipFill>
        <p:spPr>
          <a:xfrm>
            <a:off x="1523880" y="3657600"/>
            <a:ext cx="3124440" cy="24559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8" descr="working%2520together"/>
          <p:cNvPicPr/>
          <p:nvPr/>
        </p:nvPicPr>
        <p:blipFill>
          <a:blip r:embed="rId3"/>
          <a:stretch/>
        </p:blipFill>
        <p:spPr>
          <a:xfrm>
            <a:off x="6324480" y="533520"/>
            <a:ext cx="186372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838080" y="533520"/>
            <a:ext cx="8305920" cy="746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700" spc="-1" strike="noStrike">
                <a:solidFill>
                  <a:srgbClr val="eaeaea"/>
                </a:solidFill>
                <a:latin typeface="Arial Narrow"/>
              </a:rPr>
              <a:t>Activity</a:t>
            </a:r>
            <a:r>
              <a:rPr b="0" lang="en-US" sz="12100" spc="-1" strike="noStrike">
                <a:solidFill>
                  <a:srgbClr val="eaeaea"/>
                </a:solidFill>
                <a:latin typeface="Arial Narrow"/>
              </a:rPr>
              <a:t>: </a:t>
            </a:r>
            <a:endParaRPr b="0" lang="en-US" sz="121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100" spc="-1" strike="noStrike">
                <a:solidFill>
                  <a:srgbClr val="eaeaea"/>
                </a:solidFill>
                <a:latin typeface="Arial Narrow"/>
              </a:rPr>
              <a:t>What Gear are you in???</a:t>
            </a:r>
            <a:endParaRPr b="0" lang="en-US" sz="121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1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Impact"/>
              </a:rPr>
              <a:t>Family &amp; Consumer Sciences – </a:t>
            </a:r>
            <a:br>
              <a:rPr sz="4000"/>
            </a:br>
            <a:r>
              <a:rPr b="0" lang="en-US" sz="3600" spc="-1" strike="noStrike">
                <a:solidFill>
                  <a:srgbClr val="ebd189"/>
                </a:solidFill>
                <a:latin typeface="Impact"/>
              </a:rPr>
              <a:t>Be proud of what’s been accomplished!</a:t>
            </a:r>
            <a:endParaRPr b="0" lang="en-US" sz="36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90720" y="190476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eaeaea"/>
                </a:solidFill>
                <a:uFillTx/>
                <a:latin typeface="Arial Narrow"/>
              </a:rPr>
              <a:t>Then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   </a:t>
            </a:r>
            <a:r>
              <a:rPr b="1" lang="en-US" sz="3200" spc="-1" strike="noStrike" u="sng">
                <a:solidFill>
                  <a:srgbClr val="eaeaea"/>
                </a:solidFill>
                <a:uFillTx/>
                <a:latin typeface="Arial Narrow"/>
              </a:rPr>
              <a:t>Now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eaeaea"/>
                </a:solidFill>
                <a:uFillTx/>
                <a:latin typeface="Arial Narrow"/>
              </a:rPr>
              <a:t>Life Expectancy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47.3 years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77.8 years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eaeaea"/>
                </a:solidFill>
                <a:uFillTx/>
                <a:latin typeface="Arial Narrow"/>
              </a:rPr>
              <a:t>Education Beyond High School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1.9%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26.6%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eaeaea"/>
                </a:solidFill>
                <a:uFillTx/>
                <a:latin typeface="Arial Narrow"/>
              </a:rPr>
              <a:t>Goals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Improve Quality of Life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        Prepare students 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            for the work of             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             the family and 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         careers.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60" name="Line 4"/>
          <p:cNvSpPr/>
          <p:nvPr/>
        </p:nvSpPr>
        <p:spPr>
          <a:xfrm>
            <a:off x="2438280" y="2895480"/>
            <a:ext cx="48769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61" name="Line 5"/>
          <p:cNvSpPr/>
          <p:nvPr/>
        </p:nvSpPr>
        <p:spPr>
          <a:xfrm>
            <a:off x="2286000" y="4038480"/>
            <a:ext cx="48769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62" name="Line 6"/>
          <p:cNvSpPr/>
          <p:nvPr/>
        </p:nvSpPr>
        <p:spPr>
          <a:xfrm>
            <a:off x="2286000" y="5486400"/>
            <a:ext cx="48769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3" name="Object 4"/>
          <p:cNvGraphicFramePr/>
          <p:nvPr/>
        </p:nvGraphicFramePr>
        <p:xfrm>
          <a:off x="0" y="177840"/>
          <a:ext cx="9144000" cy="6500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7840"/>
                    <a:ext cx="9144000" cy="650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Impact"/>
              </a:rPr>
              <a:t>Gears in the System…</a:t>
            </a: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Birth-12 Certification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Individual and Family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Community and Career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Process Skills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Family Focus Courses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Career Focus Courses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Dual Purpose Courses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Show Me Goals and Standards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FCCLA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Programs of Study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67" name="Picture 6" descr="j0329925"/>
          <p:cNvPicPr/>
          <p:nvPr/>
        </p:nvPicPr>
        <p:blipFill>
          <a:blip r:embed="rId1"/>
          <a:stretch/>
        </p:blipFill>
        <p:spPr>
          <a:xfrm>
            <a:off x="4648320" y="1600200"/>
            <a:ext cx="4114800" cy="29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807732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Impact"/>
              </a:rPr>
              <a:t>Program of Study (POS)  -</a:t>
            </a:r>
            <a:br>
              <a:rPr sz="4000"/>
            </a:br>
            <a:r>
              <a:rPr b="0" lang="en-US" sz="4000" spc="-1" strike="noStrike">
                <a:solidFill>
                  <a:srgbClr val="ebd189"/>
                </a:solidFill>
                <a:latin typeface="Impact"/>
              </a:rPr>
              <a:t>	</a:t>
            </a:r>
            <a:r>
              <a:rPr b="0" lang="en-US" sz="4000" spc="-1" strike="noStrike">
                <a:solidFill>
                  <a:srgbClr val="ebd189"/>
                </a:solidFill>
                <a:latin typeface="Impact"/>
              </a:rPr>
              <a:t>                                     NOT a Dirty Word!</a:t>
            </a:r>
            <a:endParaRPr b="0" lang="en-US" sz="40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90720" y="20570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We are ahead of other curriculum areas.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We are LEADERS and we want to stay that way.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Program credibility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Missouri is the process of seamlessly adopting National Family and Consumer Sciences Standards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National end of program assessments will be put in place at the local level by 2011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1066680" y="456840"/>
            <a:ext cx="4114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Focusing on a career path will provide more opportunities for your students AND your Family and Consumer Sciences program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We need to have this in place, ready to go, because as you well know, Family and Consumer Sciences programs are constantly under scrutiny. 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71" name="Picture 6" descr="images"/>
          <p:cNvPicPr/>
          <p:nvPr/>
        </p:nvPicPr>
        <p:blipFill>
          <a:blip r:embed="rId1"/>
          <a:stretch/>
        </p:blipFill>
        <p:spPr>
          <a:xfrm>
            <a:off x="5562720" y="1752480"/>
            <a:ext cx="2895480" cy="28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Impact"/>
              </a:rPr>
              <a:t>What Does POS Mean to You?</a:t>
            </a: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Missouri has chosen the Career Clusters Framework to organize and implement its programs of study.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74" name="Picture 4" descr="MCj03326800000[1]"/>
          <p:cNvPicPr/>
          <p:nvPr/>
        </p:nvPicPr>
        <p:blipFill>
          <a:blip r:embed="rId1"/>
          <a:stretch/>
        </p:blipFill>
        <p:spPr>
          <a:xfrm>
            <a:off x="4572000" y="2971800"/>
            <a:ext cx="3657600" cy="32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5" name="Object 4"/>
          <p:cNvGraphicFramePr/>
          <p:nvPr/>
        </p:nvGraphicFramePr>
        <p:xfrm>
          <a:off x="1922400" y="0"/>
          <a:ext cx="5124600" cy="662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22400" y="0"/>
                    <a:ext cx="5124600" cy="662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" name="Line 5"/>
          <p:cNvSpPr/>
          <p:nvPr/>
        </p:nvSpPr>
        <p:spPr>
          <a:xfrm flipV="1">
            <a:off x="5410080" y="2209680"/>
            <a:ext cx="2286000" cy="4572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78" name="Text Box 6"/>
          <p:cNvSpPr/>
          <p:nvPr/>
        </p:nvSpPr>
        <p:spPr>
          <a:xfrm>
            <a:off x="7772400" y="1828800"/>
            <a:ext cx="1066680" cy="642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ab40"/>
                </a:solidFill>
                <a:latin typeface="Arial Narrow"/>
              </a:rPr>
              <a:t>Career Path</a:t>
            </a: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79" name="Line 7"/>
          <p:cNvSpPr/>
          <p:nvPr/>
        </p:nvSpPr>
        <p:spPr>
          <a:xfrm flipV="1">
            <a:off x="6248520" y="761760"/>
            <a:ext cx="1600200" cy="7596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80" name="Text Box 8"/>
          <p:cNvSpPr/>
          <p:nvPr/>
        </p:nvSpPr>
        <p:spPr>
          <a:xfrm>
            <a:off x="7924680" y="457200"/>
            <a:ext cx="914400" cy="642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ab40"/>
                </a:solidFill>
                <a:latin typeface="Arial Narrow"/>
              </a:rPr>
              <a:t>Career</a:t>
            </a:r>
            <a:r>
              <a:rPr b="0" lang="en-US" sz="1800" spc="-1" strike="noStrike">
                <a:solidFill>
                  <a:srgbClr val="eaeaea"/>
                </a:solidFill>
                <a:latin typeface="Arial Narrow"/>
              </a:rPr>
              <a:t> </a:t>
            </a:r>
            <a:r>
              <a:rPr b="1" lang="en-US" sz="1800" spc="-1" strike="noStrike">
                <a:solidFill>
                  <a:srgbClr val="fcab40"/>
                </a:solidFill>
                <a:latin typeface="Arial Narrow"/>
              </a:rPr>
              <a:t>Cluster</a:t>
            </a: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81" name="Line 9"/>
          <p:cNvSpPr/>
          <p:nvPr/>
        </p:nvSpPr>
        <p:spPr>
          <a:xfrm>
            <a:off x="6400800" y="3352680"/>
            <a:ext cx="914400" cy="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82" name="Text Box 10"/>
          <p:cNvSpPr/>
          <p:nvPr/>
        </p:nvSpPr>
        <p:spPr>
          <a:xfrm>
            <a:off x="7467480" y="3200400"/>
            <a:ext cx="1067040" cy="642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ab40"/>
                </a:solidFill>
                <a:latin typeface="Arial Narrow"/>
              </a:rPr>
              <a:t>Career Pathway</a:t>
            </a: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4T20:33:37Z</dcterms:created>
  <dc:creator>Carthage R9</dc:creator>
  <dc:description/>
  <cp:keywords/>
  <dc:language>en-US</dc:language>
  <cp:lastModifiedBy>Kelley Ritter User</cp:lastModifiedBy>
  <cp:lastPrinted>2009-04-22T19:24:48Z</cp:lastPrinted>
  <dcterms:modified xsi:type="dcterms:W3CDTF">2008-10-27T16:48:23Z</dcterms:modified>
  <cp:revision>10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90181033</vt:lpwstr>
  </property>
</Properties>
</file>